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AEF-AFB9-4F2B-AD3F-AFF9CED2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630-881B-468F-86AD-EC1ADEC0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BF1-537C-4961-9501-458D65E0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DA7-EC65-4970-BA54-ACEC1A85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832-5CDD-4391-BAC7-3718B8CB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091-1DBC-4EA1-869B-8DF7D75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C9B-F84D-40F0-8681-C1E04F3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665-BEEF-4C36-B9BE-98815F2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DE3-3F3B-41FB-9D56-D96C6E8E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B2F-E7C7-4804-9670-25CA4E3A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68A-3707-4DB7-9967-AFDA755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D47-E283-4562-87C0-5B96618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E69-8666-492A-81D7-CFB7B4177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mall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Parker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lack wolf’s name was 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38280" y="1649520"/>
            <a:ext cx="378648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asked Dom why he is living alone by himself in a 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76720" cy="339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Dom told Kino why he lived alone Kino noticed that Dom had a lot of scars and scrat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 told Kino that has been attacked by many hunters and other animals but has always seemed to escape from th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ived with Dom for many months after tha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2838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while Dom was out hunting Kino heard many other wolf’s near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51055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with those wolfs was Kino’s mom who was still looking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264200" y="1828800"/>
            <a:ext cx="3622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ran to his mom and he was very happy she had found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171880" y="207792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 came back and didn’t understand why there were all these wolfs by hi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011760" cy="312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886200" cy="28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2767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saw Kino and his mom and then underst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762120" y="533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small and happy wo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071800" y="2390760"/>
            <a:ext cx="3919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said goodbye to Dom and then left to go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172200" y="1523880"/>
            <a:ext cx="2743200" cy="2846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1905120" y="3429000"/>
            <a:ext cx="40384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wolf’s name was Ki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43200" y="2824200"/>
            <a:ext cx="3247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oved to play with his friends and his m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54168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3314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Kino got lost from his mom when he fell into a r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42800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ooked and looked for his mom but couldn’t find her at 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133720" y="2079720"/>
            <a:ext cx="4267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o was lost for many days and couldn’t find anything that looked famili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721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ino found a cave and went into it until a big black wolf appear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39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was scared but at the same time interested in the black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9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5:11Z</dcterms:created>
  <dc:creator>itsuser</dc:creator>
  <dc:description/>
  <dc:language>en-US</dc:language>
  <cp:lastModifiedBy>itsuser</cp:lastModifiedBy>
  <dcterms:modified xsi:type="dcterms:W3CDTF">2009-04-09T17:24:22Z</dcterms:modified>
  <cp:revision>7</cp:revision>
  <dc:subject/>
  <dc:title>The Small Wolf</dc:title>
</cp:coreProperties>
</file>